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185-156C-42E7-8ACF-B0CDDCBCB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F18-8A7E-4061-8C4F-9C4DE3A6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B3DE-E64F-413F-9BBF-804BBA0D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B30-6443-48B2-A2EE-B672FC04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5DEF-BB8C-4EA2-8AE8-61B4727D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AFC-E0B1-46DD-9F19-AE53E1D9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E27D-DE06-4685-94C5-AAA63DEB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1617-1F9A-4D01-9FFA-92853EA9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8A55-3F7C-4223-B23A-F6BEC21E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476-4555-4C9E-A4C5-085BBCEB9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10A-2BD3-4B41-9CC5-0F317E505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06BF-E8E8-4698-A4E1-197854C6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B009-39AA-496B-B403-D36C7C0EB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Arial"/>
              </a:rPr>
              <a:t>Business C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John Mikiewi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13840" cy="3276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95280" y="3429000"/>
            <a:ext cx="381240" cy="1371600"/>
          </a:xfrm>
          <a:prstGeom prst="up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9528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lick on Publications for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038480" y="1600200"/>
            <a:ext cx="4619880" cy="4595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2362320"/>
            <a:ext cx="3276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Pla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ccent Box 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2211600">
            <a:off x="3504960" y="2895480"/>
            <a:ext cx="1447560" cy="381240"/>
          </a:xfrm>
          <a:prstGeom prst="rightArrow">
            <a:avLst>
              <a:gd name="adj1" fmla="val 50000"/>
              <a:gd name="adj2" fmla="val 949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3733920"/>
            <a:ext cx="1600200" cy="380880"/>
          </a:xfrm>
          <a:prstGeom prst="rightArrow">
            <a:avLst>
              <a:gd name="adj1" fmla="val 50000"/>
              <a:gd name="adj2" fmla="val 10503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20286600">
            <a:off x="3123720" y="4571640"/>
            <a:ext cx="3657600" cy="380880"/>
          </a:xfrm>
          <a:prstGeom prst="rightArrow">
            <a:avLst>
              <a:gd name="adj1" fmla="val 50000"/>
              <a:gd name="adj2" fmla="val 2400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715000" y="1600200"/>
            <a:ext cx="2971800" cy="4486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2286000"/>
            <a:ext cx="4647960" cy="35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no 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Landscape ori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one (1) copy per 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342600">
            <a:off x="3428640" y="3429000"/>
            <a:ext cx="3581280" cy="380880"/>
          </a:xfrm>
          <a:prstGeom prst="rightArrow">
            <a:avLst>
              <a:gd name="adj1" fmla="val 50000"/>
              <a:gd name="adj2" fmla="val 2350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459000">
            <a:off x="5486040" y="4495320"/>
            <a:ext cx="1371600" cy="381240"/>
          </a:xfrm>
          <a:prstGeom prst="right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656400">
            <a:off x="5410080" y="548640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ete the 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your school’s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5138640" cy="3081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 rot="5400000">
            <a:off x="5600520" y="247644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029200" cy="3176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52880" y="1905120"/>
            <a:ext cx="335304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 NEIU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your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20860800">
            <a:off x="3962520" y="2971800"/>
            <a:ext cx="1447560" cy="304920"/>
          </a:xfrm>
          <a:prstGeom prst="leftArrow">
            <a:avLst>
              <a:gd name="adj1" fmla="val 50000"/>
              <a:gd name="adj2" fmla="val 118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497600">
            <a:off x="3657600" y="4033800"/>
            <a:ext cx="1752480" cy="308160"/>
          </a:xfrm>
          <a:prstGeom prst="leftArrow">
            <a:avLst>
              <a:gd name="adj1" fmla="val 50000"/>
              <a:gd name="adj2" fmla="val 1421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5257800" cy="3733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85800" y="2362320"/>
            <a:ext cx="2514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ete address lines 2, 3, and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n your school’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1981080" y="3200400"/>
            <a:ext cx="914400" cy="228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Card Ed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352680" y="1600200"/>
            <a:ext cx="5443560" cy="38196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962520"/>
            <a:ext cx="2438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your phone number, fax number, and e-mai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182600">
            <a:off x="3085920" y="4578120"/>
            <a:ext cx="1600200" cy="990360"/>
          </a:xfrm>
          <a:custGeom>
            <a:avLst/>
            <a:gdLst>
              <a:gd name="textAreaLeft" fmla="*/ 533520 w 1600200"/>
              <a:gd name="textAreaRight" fmla="*/ 1370520 w 1600200"/>
              <a:gd name="textAreaTop" fmla="*/ 570240 h 990360"/>
              <a:gd name="textAreaBottom" fmla="*/ 8485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21:48:01Z</dcterms:created>
  <dc:creator>neiu</dc:creator>
  <dc:description/>
  <dc:language>en-US</dc:language>
  <cp:lastModifiedBy>neiu</cp:lastModifiedBy>
  <dcterms:modified xsi:type="dcterms:W3CDTF">2008-11-19T22:35:08Z</dcterms:modified>
  <cp:revision>5</cp:revision>
  <dc:subject/>
  <dc:title>Business Cards</dc:title>
</cp:coreProperties>
</file>